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F661AE-CFF8-4158-A39A-14360D97C24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F8E8DA-52CE-419E-894C-2230131819A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0CA3B7-71EA-4BB6-B00F-B45AC04A9D2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DAD212-48F5-4F68-B00C-FB7945710B6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B95411-0AD5-4275-AA8F-148CAF71F11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28E5A7-56C5-4500-B04F-4F95DED51D4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32993A-F03D-4488-96FA-D35C78532A9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34D97E-00C5-496D-B3E5-82F52C1E950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E57-8FCC-4CF6-A95F-31248234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B35-5CA2-449E-808D-63C44EDA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F26-9E25-416F-80AD-F43AD0CC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BAE-2720-4E8A-860E-49CCDB83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A52B-C16B-4ED5-9E69-242A1956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8AF-29B7-4DDD-8C26-5DBF6B21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FC27-D297-4315-98BE-86C1458B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A97C-92FF-4461-B5BF-9BC5AE25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52C9-BAB4-4C8B-A2E1-8B2EE1C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B75D-616D-4069-8B48-B99F7FEF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6DEF-40C8-4451-B40D-25F5253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98A-B667-47B4-B36F-FA96111E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E882-8ED1-4116-80CC-FFD6003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9D29-8E82-4DFB-9D11-FDDD5DB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E785-0A59-4DBB-8D94-F164BA0A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EFE6-BC1D-4B02-8C7F-D9B7DC92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7CD0-2AA0-41D0-BBE5-010D6283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F98-15D9-44CD-88F3-2FA62D7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CBA-564B-4141-AA44-515F227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6EE-3C94-4F30-8F5C-89D96A2E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B84-A8DC-4A31-8BDD-C251860E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51C-AF3F-4413-B24F-6162748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A7B-A609-4280-B892-44CCFB7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5CE-5B7F-4AC1-8F60-8BD80675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189B-D4CC-4656-B857-FEFEF3B45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9C85-BD3D-48D0-B1A5-B3FA8DB72992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 (+ hadoop)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nutch.apache.org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803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mall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i.stack.imgur.com/1j5IO.jpg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95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26d4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00" name="Straight Arrow Connector 13"/>
          <p:cNvCxnSpPr>
            <a:stCxn id="97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101" name="Straight Arrow Connector 14"/>
          <p:cNvCxnSpPr>
            <a:stCxn id="96" idx="4"/>
            <a:endCxn id="99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102" name="Straight Arrow Connector 12"/>
          <p:cNvCxnSpPr>
            <a:stCxn id="97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103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ttangolo arrotondato 1"/>
          <p:cNvSpPr/>
          <p:nvPr/>
        </p:nvSpPr>
        <p:spPr>
          <a:xfrm>
            <a:off x="6588000" y="2349360"/>
            <a:ext cx="144000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6732720" y="5227560"/>
            <a:ext cx="1083960" cy="50508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792080"/>
            <a:ext cx="82818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the page has been parsed/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uplicate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ear-duplicate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ption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609120" indent="-2343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ashing 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37080" indent="-187200">
              <a:lnSpc>
                <a:spcPct val="15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fter 50 bln pages, we have 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en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over 500 bln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ach URL is at least 100 bytes on aver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Overall we have about 50.000 Tb (=50Pb) for just the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09120" indent="-2343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e.g.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37080" indent="-18720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per URL chec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37080" indent="-18720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* 5 * 1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URL-checks =&gt; 8000 years/1PC =&gt; 30gg/1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5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09120" indent="-2343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37080" indent="-18720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50 bln URL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about 50 Tb   </a:t>
            </a:r>
            <a:r>
              <a:rPr b="0" i="1" lang="en-US" sz="1600" spc="-1" strike="noStrike">
                <a:solidFill>
                  <a:srgbClr val="333399"/>
                </a:solidFill>
                <a:latin typeface="Lucida Sans"/>
              </a:rPr>
              <a:t>[cfr. 1/1000 hashing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the page new?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[Bloom Filter, 1970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reate a binary array B[1,m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ider a family of k hash functions that map a key (URL) to a position (integer)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0" name="Picture 2" descr="https://upload.wikimedia.org/wikipedia/commons/thumb/a/ac/Bloom_filter.svg/649px-Bloom_filter.svg.png"/>
          <p:cNvPicPr/>
          <p:nvPr/>
        </p:nvPicPr>
        <p:blipFill>
          <a:blip r:embed="rId1"/>
          <a:srcRect l="0" t="45726" r="0" b="0"/>
          <a:stretch/>
        </p:blipFill>
        <p:spPr>
          <a:xfrm>
            <a:off x="1187280" y="4365720"/>
            <a:ext cx="6181920" cy="1204920"/>
          </a:xfrm>
          <a:prstGeom prst="rect">
            <a:avLst/>
          </a:prstGeom>
          <a:ln w="0">
            <a:noFill/>
          </a:ln>
        </p:spPr>
      </p:pic>
      <p:sp>
        <p:nvSpPr>
          <p:cNvPr id="111" name="Rounded Rectangle 7"/>
          <p:cNvSpPr/>
          <p:nvPr/>
        </p:nvSpPr>
        <p:spPr>
          <a:xfrm>
            <a:off x="34920" y="6021360"/>
            <a:ext cx="6121440" cy="792360"/>
          </a:xfrm>
          <a:prstGeom prst="roundRect">
            <a:avLst>
              <a:gd name="adj" fmla="val 16667"/>
            </a:avLst>
          </a:prstGeom>
          <a:solidFill>
            <a:srgbClr val="007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ro: No need to store keys, less comple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≈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*X bln bits in array </a:t>
            </a:r>
            <a:r>
              <a:rPr b="0" i="1" lang="it-IT" sz="2000" spc="-1" strike="noStrike">
                <a:solidFill>
                  <a:srgbClr val="ffffff"/>
                </a:solidFill>
                <a:latin typeface="Lucida Sans"/>
              </a:rPr>
              <a:t>versus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.000 bln cha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ounded Rectangle 6"/>
          <p:cNvSpPr/>
          <p:nvPr/>
        </p:nvSpPr>
        <p:spPr>
          <a:xfrm>
            <a:off x="6300720" y="6021360"/>
            <a:ext cx="2808360" cy="792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Cons: false posi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CasellaDiTesto 1"/>
          <p:cNvSpPr/>
          <p:nvPr/>
        </p:nvSpPr>
        <p:spPr>
          <a:xfrm>
            <a:off x="642240" y="420228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CasellaDiTesto 2"/>
          <p:cNvSpPr/>
          <p:nvPr/>
        </p:nvSpPr>
        <p:spPr>
          <a:xfrm>
            <a:off x="6353280" y="4294080"/>
            <a:ext cx="296640" cy="33732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CasellaDiTesto 9"/>
          <p:cNvSpPr/>
          <p:nvPr/>
        </p:nvSpPr>
        <p:spPr>
          <a:xfrm>
            <a:off x="6062040" y="489888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k=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52916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29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928800" y="4508640"/>
            <a:ext cx="407484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74840" y="531036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ounded Rectangle 5"/>
          <p:cNvSpPr/>
          <p:nvPr/>
        </p:nvSpPr>
        <p:spPr>
          <a:xfrm>
            <a:off x="108000" y="5541840"/>
            <a:ext cx="676908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inimize prob. error for k = (m/n) ln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ttangolo arrotondato 1"/>
          <p:cNvSpPr/>
          <p:nvPr/>
        </p:nvSpPr>
        <p:spPr>
          <a:xfrm>
            <a:off x="6516720" y="1752480"/>
            <a:ext cx="2448000" cy="1316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/n = 30 b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= 4 * 10</a:t>
            </a:r>
            <a:r>
              <a:rPr b="0" lang="it-IT" sz="2400" spc="-1" strike="noStrike" baseline="42000">
                <a:solidFill>
                  <a:srgbClr val="ffffff"/>
                </a:solidFill>
                <a:latin typeface="Lucida Sans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00364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88000" y="4437000"/>
            <a:ext cx="39258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= 0.62</a:t>
            </a:r>
            <a:r>
              <a:rPr b="0" lang="it-IT" sz="2400" spc="-1" strike="noStrike" baseline="44000">
                <a:solidFill>
                  <a:srgbClr val="ff0000"/>
                </a:solidFill>
                <a:latin typeface="Lucida Sans"/>
              </a:rPr>
              <a:t>m/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rcRect l="38189" t="43700" r="37401" b="27952"/>
          <a:stretch/>
        </p:blipFill>
        <p:spPr>
          <a:xfrm>
            <a:off x="6929280" y="4551480"/>
            <a:ext cx="2232360" cy="1942920"/>
          </a:xfrm>
          <a:prstGeom prst="rect">
            <a:avLst/>
          </a:prstGeom>
          <a:ln w="0">
            <a:noFill/>
          </a:ln>
        </p:spPr>
      </p:pic>
      <p:sp>
        <p:nvSpPr>
          <p:cNvPr id="137" name="Rounded Rectangle 5"/>
          <p:cNvSpPr/>
          <p:nvPr/>
        </p:nvSpPr>
        <p:spPr>
          <a:xfrm>
            <a:off x="179280" y="6381720"/>
            <a:ext cx="856944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dvantageous when (m/n) 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« (key-length in bits + log 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t needs communication bwt coordinator/crawl threa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,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 need of coordinator and thus commun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wo problems with static assignmen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download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ocation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6500880" y="1557360"/>
            <a:ext cx="2643120" cy="27352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735280"/>
              <a:gd name="textAreaBottom" fmla="*/ 2606400 h 2735280"/>
            </a:gdLst>
            <a:ahLst/>
            <a:rect l="textAreaLeft" t="textAreaTop" r="textAreaRight" b="textAreaBottom"/>
            <a:pathLst>
              <a:path w="21600" h="22353">
                <a:moveTo>
                  <a:pt x="3600" y="0"/>
                </a:moveTo>
                <a:arcTo wR="3600" hR="3600" stAng="16200000" swAng="-5400000"/>
                <a:lnTo>
                  <a:pt x="0" y="18753"/>
                </a:lnTo>
                <a:arcTo wR="3600" hR="3600" stAng="10800000" swAng="-5400000"/>
                <a:lnTo>
                  <a:pt x="18000" y="22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of downloaders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Dowloader x fetch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ch hash would you use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</a:t>
            </a:r>
            <a:r>
              <a:rPr b="0" i="1" lang="en-US" sz="1600" spc="-1" strike="noStrike">
                <a:solidFill>
                  <a:srgbClr val="ff0000"/>
                </a:solidFill>
                <a:latin typeface="Lucida Sans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rvers mapped to unit circle via hash function ID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K assigned to first server N such that ID(N) ≥ ID(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downloader goes down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new downloader appear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0"/>
          <p:cNvGrpSpPr/>
          <p:nvPr/>
        </p:nvGrpSpPr>
        <p:grpSpPr>
          <a:xfrm>
            <a:off x="4143240" y="4302000"/>
            <a:ext cx="4954320" cy="2286000"/>
            <a:chOff x="4143240" y="4302000"/>
            <a:chExt cx="4954320" cy="2286000"/>
          </a:xfrm>
        </p:grpSpPr>
        <p:sp>
          <p:nvSpPr>
            <p:cNvPr id="148" name="Text Box 8"/>
            <p:cNvSpPr/>
            <p:nvPr/>
          </p:nvSpPr>
          <p:spPr>
            <a:xfrm>
              <a:off x="4318200" y="4319640"/>
              <a:ext cx="412812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 old server to the new one, only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balanc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Prob item goes to a server is ≤ O(1)/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load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ny server gets  ≤  (I/S) log S items w.h.p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scal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you can copy each server more times..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143240" y="4302000"/>
              <a:ext cx="4954320" cy="228600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09-29T11:06:14Z</dcterms:modified>
  <cp:revision>1232</cp:revision>
  <dc:subject/>
  <dc:title>Web Algorithmics</dc:title>
</cp:coreProperties>
</file>